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28B-BA1B-452C-AFF2-7F5468AC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0EC-93AC-441E-AE8D-5E873F81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3B1-7BC7-4462-BB6B-73834111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490-A517-4989-9771-FAA31D50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781B-8708-4AC4-B768-70B1E058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0E59-F239-4F0B-9622-67E68F36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CAE-1446-4EF9-A1EA-1CD72CFC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B513-3D4A-44D2-9FE6-7E249A2C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6432-7B6A-494D-92D5-510D052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1875-8D8D-4799-BD5B-2560911E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BDF1-0F88-4F6B-9E8D-01BBBA17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591-ABEF-4C9D-ACB5-CA22FA08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66F-A460-486E-B505-7648C8A8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953A-225F-495E-B25D-EF701E9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6BCB-937E-4B40-9BBE-27912728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38F7-B551-4877-9C0E-2D1415E5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80CD-AAEF-451E-8901-31E6C616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0EB-88F5-4B82-B3A1-6CE7AF84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847-E375-4911-96D6-3D84BFCF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4FD-AF92-455C-A83E-332446AD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4FB-2A66-4FD5-8A52-00D3A2D7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44B-EDF8-4180-A1F9-BA841ECB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61E-902E-4294-A14C-A02DC5B6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85A-FDA4-40EF-8B47-F67E6F2C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9183-99E0-4E8B-A7B8-7B98B93A01B7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ABBA-5D24-4440-81C8-7F8552C4271F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6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reya Raw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38088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30492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basic rules about desig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ts of a well designed spreadshee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the spreadsheet on paper firs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st and edit your calcul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ep the components of a calculation visibl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 aware of the "space" or "geography" of the spreadshee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1) Introduction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is spreadsheet or workbook about. Note the title, purpose, author, creation and revision dates etc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odel and Assumption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stify any models, summary statistics, or calculated variables you are using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ata Dictionar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every variable in the spreadsheet note 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ocati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cell rang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 Clas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it is (Raw Data, Statistical Summary, Calculated Variable, Score etc.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 Typ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e.g. Integer, Text, Currency, Date, etc.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scripti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a description of the data or what it's '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rpos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' is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4) Raw Dat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sent your raw data in tabular form,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lumns representing variabl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ows representing cas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5) Calculated Data: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mary Statistics: Usually Summary statistics result from calculations across rows for a single colum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ived variables are often based on calculations across columns for a row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6) Present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Reporting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 the final information you wish to show without excessive background detail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charts wherever appropriate to summarize large volumes of dat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reya Rawal</cp:lastModifiedBy>
  <dcterms:modified xsi:type="dcterms:W3CDTF">2009-01-28T17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